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38811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4FCBD-E498-49DE-ACD3-F2DB1FC0EAE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leidigungen / Liebeserklärungen prüf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Fremdbenutzung von Accounts – PC steht im Wohnzi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ax.Mustermann@web.d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704680" y="11382480"/>
            <a:ext cx="6972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59800" y="11031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455760"/>
            <a:ext cx="777240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Chaos macht Schule</a:t>
            </a:r>
            <a:br>
              <a:rPr sz="4400"/>
            </a:br>
            <a:br>
              <a:rPr sz="800"/>
            </a:br>
            <a:r>
              <a:rPr b="1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Privatsphäre und Mobb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286160"/>
            <a:ext cx="91803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7960" anchor="t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Lucida Sans Typewriter"/>
                <a:ea typeface="Arial"/>
              </a:rPr>
              <a:t>Chaos Computer Club Hambu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Lucida Sans Typewriter"/>
                <a:ea typeface="Arial"/>
              </a:rPr>
              <a:t>Björn - Morit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86040"/>
            <a:ext cx="8229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Wer von euch ist bei </a:t>
            </a:r>
            <a:r>
              <a:rPr b="1" i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SchuelerVZ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86040"/>
            <a:ext cx="8229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Was findet ihr an </a:t>
            </a:r>
            <a:r>
              <a:rPr b="1" i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SchuelerVZ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coo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400" y="5356080"/>
            <a:ext cx="82296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071800" y="1214280"/>
            <a:ext cx="5072040" cy="4954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4280" y="4784760"/>
            <a:ext cx="7929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57160" y="1785960"/>
            <a:ext cx="7363080" cy="3495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8760" y="16416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Freundschaften... ja wie jetz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In den Standardeinstellungen dürfen nur eure Freunde auf euer Profil, eure Gruppen und eure Fotos zugreif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So können Fremde euch nicht beobachten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Schaut in euren Einstellungen nach ob das in eurem Profil noch so eingestellt i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Privatsphä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1282680"/>
            <a:ext cx="82296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ie könnt ihr eure persönlichen Daten</a:t>
            </a:r>
            <a:br>
              <a:rPr sz="2600"/>
            </a:b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vor Diebstahl schütz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Lesen, denken, lesen, nochmal denken 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und dann erst mache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Muss ich mich dort wirklich anmeld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elche Daten muss ich angeb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elche Einstellungen kann ich vornehm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em gebe ich da eigentlich meine Dat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Denk an die Privatsphäre ander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Fragt Freunde, bevor ihr z.B. Fotos mit ihnen veröffentlich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28760" y="16416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Tolle Sache, so ein Freundschaftsangebot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Aber auch nur, wenn ihr euch sicher sei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Nicht jeder ist euer Freund und Menschen, die ihr nicht kennt, schon gar nich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17016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Laura,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bin ich dein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Freu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56068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Aber nicht nur Laura ist meine Freund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Ich habe hier noch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andere, obwohl mich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keiner kenn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ichtig: Freundschaft hat was mit Vertrauen zu tu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Nur weil euch jemand eine Freundschaft anbietet, heißt das noch lange nicht, dass ihr die auch annehmen müs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Oder würdet ihr jeden in euer Zimmer rein lassen, nur weil er oder sie an der Tür klopf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Viele „Freunde“ zu haben, ist nicht cool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Echte Freunde findet man nicht im Interne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704680" y="11382480"/>
            <a:ext cx="6972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59800" y="11031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Wer sind wi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92200"/>
            <a:ext cx="82296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Der Chaos Computer Club ist seit 25 Jahren eine Vereinigung von Hackern, Computerspezialisten und Datenschütze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Wir beschäftigen uns meist mit interessanter Technik und experimentieren mit ihren Möglichkeiten, untersuchen aber auch ihre Gefahren und Risiken für die Gesellsch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Nicknames können lüge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Max.Mustermann@web.d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 muss nicht die Adresse von Max se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Im Internet kann jeder vorgeben, jeder zu se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Prüft es selber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Erst sicher gehen, dann adde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Wer ist Wer 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ie prüfe ich die Identität meines Gesprächspartn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Codewort vereinba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Trefft euch an einem öffentlichen 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Nehmt jemanden m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Wer ist Wer 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Grup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786040"/>
            <a:ext cx="8229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Wer von euch ist in einer </a:t>
            </a:r>
            <a:r>
              <a:rPr b="1" i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SchuelerVZ Gruppe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as findet ihr an Gruppen toll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art ihr schon an Mobbing im Internet beteilig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as ihr lustig findet, müssen die anderen nicht auch lustig finde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Grup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Die Betreiber von SchülerVZ können in alle Gruppen se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Sie können auch private Nachrichten les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Kurzum, sie können alle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Privat ist nicht Priva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Denk nach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1260360"/>
            <a:ext cx="6300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Ein Beispiel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Lehrer, Vertrauenslehrer und Sozialpädago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Sprecht mit euren Elter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Meldet euch bei der Verwaltung von SchülerV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Ansprechpartn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Was lernen wi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760" y="1427040"/>
            <a:ext cx="82296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Überlegt euch genau, was ihr ins Internet stell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Schreibt nur das, was wirklich die ganze Welt wissen darf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„</a:t>
            </a:r>
            <a:r>
              <a:rPr b="0" lang="de-DE" sz="2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as können eh nur meine Freunde lesen“ gibt es nich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Das Internet vergisst nich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Informationen im Internet verteilen sich schne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Ihr könnt sie nicht mehr überall finden und lösc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Die 4 goldenen Regel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760" y="1476360"/>
            <a:ext cx="846432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69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Denkt immer nach, bevor ihr im Internet etwas schreibt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Auch in Foren oder im SchülerVZ kann das jeder lesen!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Nicht nur alle eure Mitschüler, sondern sogar eure Lehrer, Eltern und Frem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Gebt nicht einfach Fotos von euch raus und ladet keine Fotos von anderen ins Internet, ohne sie zu frag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Wenn möglich, benutzt einen Spitznamen (Nickname)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Euren echten Namen könnt ihr nicht so einfach wechsel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Gebt nicht wahllos eure Adresse weg. Auch eure Handynummer geht nur eure Freunde etwas 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Danke fürs Wachbleiben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881440"/>
            <a:ext cx="914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bjoern@hamburg.ccc.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moritz@hamburg.ccc.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57160" y="642960"/>
            <a:ext cx="7429680" cy="5072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70080" y="2330280"/>
            <a:ext cx="69724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571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33280"/>
            <a:ext cx="82296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Arial"/>
                <a:ea typeface="Arial"/>
              </a:rPr>
              <a:t>Wie funktioniert eigentlich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Arial"/>
                <a:ea typeface="Arial"/>
              </a:rPr>
              <a:t>das Intern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28880" y="1571760"/>
            <a:ext cx="521496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33280"/>
            <a:ext cx="82296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Arial"/>
                <a:ea typeface="Arial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Arial"/>
                <a:ea typeface="Arial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Verbindungsd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IP-Adresse -&gt; Wohnort, Spr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Betriebssystem, Brow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Verlauf der Seitenaufru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Cooki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Cookies: Beispiel Amaz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928960" y="171468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7120" y="1785960"/>
            <a:ext cx="25718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mazon weiß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was ich mir in der Vergangenh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geguckt habe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und schlägt mir entsprech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dere Produkte v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o kann Amazon m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urfverhal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nachvollziehen 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zielgerichtete Werbung schal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„</a:t>
            </a: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Vorratsdatenspeicherung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Der Staat liest mi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Deine IP-Adresse und wann du online gehst sowie die angesurften Webse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Absender, Empfänger und Inhalt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jeder Email und 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Rufnummern, Zeitpunkt und Anrufdauer bei Telefon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Standort (Funkzelle) von Hand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33280"/>
            <a:ext cx="82296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Arial"/>
                <a:ea typeface="Arial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Arial"/>
                <a:ea typeface="Arial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Freiwillige“ D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Soziale Netzwerke“ und Ch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Persönliche Benutzer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Internet Arch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Unverschlüsselte Passwö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oziale Netzwer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19280"/>
            <a:ext cx="82296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Wer von euch nutzt „</a:t>
            </a:r>
            <a:r>
              <a:rPr b="1" i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Soziale Netzwerke“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29240" y="4000680"/>
            <a:ext cx="1428840" cy="496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857840" y="2857680"/>
            <a:ext cx="180324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71720" y="2928960"/>
            <a:ext cx="2422440" cy="1201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643120" y="4071960"/>
            <a:ext cx="3594240" cy="1079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785880" y="5357880"/>
            <a:ext cx="2428920" cy="563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5000760" y="4929120"/>
            <a:ext cx="1828800" cy="91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9-05-11T00:41:17Z</dcterms:modified>
  <cp:revision>186</cp:revision>
  <dc:subject/>
  <dc:title>Folie 1</dc:title>
</cp:coreProperties>
</file>